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electrical circuit used in the Vega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electrical circuit used in the Vegate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6320" y="1079640"/>
            <a:ext cx="813420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763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orge T Lewith et al. BMJ 2001;322:131-1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