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electrical circuit used in the Vega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electrodermal testing as effective as skin prick tests for diagnosing allergies? A double blind, randomised block desig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George T Lewith, Julian N Kenyon, Jackie Broomfield, Philip Prescott, Jonathan Goddard, and Stephen T Hol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22(7279):131-1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0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electrical circuit used in the Vegate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6320" y="1079640"/>
            <a:ext cx="81342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6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orge T Lewith et al. BMJ 2001;322:131-1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udy desig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36720" y="1079640"/>
            <a:ext cx="4610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36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orge T Lewith et al. BMJ 2001;322:131-1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