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ean predicted risk and observed risk of ovarian cancer over two years by 10th of predicted risk, applying risk prediction scores to validation co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an predicted risk and observed risk of ovarian cancer over two years by 10th of predicted risk, applying risk prediction scores to validation coh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6920" y="1079640"/>
            <a:ext cx="843156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ulia Hippisley-Cox, and Carol Coupland BMJ 2012;344:bmj.d8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