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 1</a:t>
            </a:r>
            <a:r>
              <a:rPr b="0" lang="en-GB" sz="1200" spc="-1" strike="noStrike">
                <a:solidFill>
                  <a:srgbClr val="000000"/>
                </a:solidFill>
                <a:latin typeface="Arial"/>
                <a:ea typeface="msgothic"/>
              </a:rPr>
              <a:t> Risks (hazard ratios) of first readmission to hospital and death for one year after hospitalization for heart failure, acute myocardial infarction, or pneumon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msgothic"/>
              </a:rPr>
              <a:t>Fig 2</a:t>
            </a:r>
            <a:r>
              <a:rPr b="0" lang="en-GB" sz="1200" spc="-1" strike="noStrike">
                <a:solidFill>
                  <a:srgbClr val="000000"/>
                </a:solidFill>
                <a:latin typeface="Arial"/>
                <a:ea typeface="msgothic"/>
              </a:rPr>
              <a:t> Relative risk of hospital admission and death in post-discharge population compared with Medicare fee for service comparator population for one year after hospital discharge for heart failure, acute myocardial infarction, or pneumonia. In 2009, the 30 day and one year cumulative incidence of hospital admission in the Medicare fee for service comparator population was 1.58% and 19.3%, respectively. The 30 day and one year cumulative incidence of death was 0.5% and 5.9%, respective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rajectories of risk after hospitalization for heart failure, acute myocardial infarction, or pneumonia: retrospective cohort stud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Kumar Dharmarajan, Angela F Hsieh, Vivek T Kulkarni, Zhenqiu Lin, Joseph S Ross, Leora I Horwitz, Nancy Kim, Lisa G Suter, Haiqun Lin, Sharon-Lise T Normand, and Harlan M Krumholz</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50():h41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5, 201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280360" y="6480000"/>
            <a:ext cx="12589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1 Risks (hazard ratios) of first readmission to hospital and death for one year after hospitalization for heart failure, acute myocardial infarction, or pneumonia.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280360" y="6480000"/>
            <a:ext cx="1258920" cy="827280"/>
          </a:xfrm>
          <a:prstGeom prst="rect">
            <a:avLst/>
          </a:prstGeom>
          <a:ln w="0">
            <a:noFill/>
          </a:ln>
        </p:spPr>
      </p:pic>
      <p:pic>
        <p:nvPicPr>
          <p:cNvPr id="48" name="" descr=""/>
          <p:cNvPicPr/>
          <p:nvPr/>
        </p:nvPicPr>
        <p:blipFill>
          <a:blip r:embed="rId2"/>
          <a:stretch/>
        </p:blipFill>
        <p:spPr>
          <a:xfrm>
            <a:off x="3454560" y="1079640"/>
            <a:ext cx="3178080" cy="5394240"/>
          </a:xfrm>
          <a:prstGeom prst="rect">
            <a:avLst/>
          </a:prstGeom>
          <a:ln w="0">
            <a:noFill/>
          </a:ln>
        </p:spPr>
      </p:pic>
      <p:sp>
        <p:nvSpPr>
          <p:cNvPr id="49" name=""/>
          <p:cNvSpPr/>
          <p:nvPr/>
        </p:nvSpPr>
        <p:spPr>
          <a:xfrm>
            <a:off x="34545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mar Dharmarajan et al. BMJ 2015;350:bmj.h41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British Medical Journal Publishing Group</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2 Relative risk of hospital admission and death in post-discharge population compared with Medicare fee for service comparator population for one year after hospital discharge for heart failure, acute myocardial infarction, or pneumonia.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280360" y="6480000"/>
            <a:ext cx="1258920" cy="827280"/>
          </a:xfrm>
          <a:prstGeom prst="rect">
            <a:avLst/>
          </a:prstGeom>
          <a:ln w="0">
            <a:noFill/>
          </a:ln>
        </p:spPr>
      </p:pic>
      <p:pic>
        <p:nvPicPr>
          <p:cNvPr id="53" name="" descr=""/>
          <p:cNvPicPr/>
          <p:nvPr/>
        </p:nvPicPr>
        <p:blipFill>
          <a:blip r:embed="rId2"/>
          <a:stretch/>
        </p:blipFill>
        <p:spPr>
          <a:xfrm>
            <a:off x="3583080" y="1079640"/>
            <a:ext cx="2921040" cy="5394240"/>
          </a:xfrm>
          <a:prstGeom prst="rect">
            <a:avLst/>
          </a:prstGeom>
          <a:ln w="0">
            <a:noFill/>
          </a:ln>
        </p:spPr>
      </p:pic>
      <p:sp>
        <p:nvSpPr>
          <p:cNvPr id="54" name=""/>
          <p:cNvSpPr/>
          <p:nvPr/>
        </p:nvSpPr>
        <p:spPr>
          <a:xfrm>
            <a:off x="3583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umar Dharmarajan et al. BMJ 2015;350:bmj.h41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5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