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View the infographic timeline at www.bmj.com/content/350/bmj.h2767/inf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ctors online: “Like flies to hone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David Pa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50():h27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26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ew the infographic timeline at www.bmj.com/content/350/bmj.h2767/infograph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2163600"/>
            <a:ext cx="8604360" cy="3225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vid Payne BMJ 2015;350:bmj.h27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