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ig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articipant flow through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ig 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Daily duration of cry or fuss over study period and at 6 month follow-up. Day 28=1 month; day 183=6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ig 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eta-analysis of previous randomised controlled trials of probiotics for management of infant colic (outcomes at 21 days post-intervention)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ig 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eta-analysis of previous randomised controlled trials of probiotics for management of infant colic with addition of results from this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eating infant colic with the probiotic Lactobacillus reuteri: double blind, placebo controlled randomised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Valerie Sung, Harriet Hiscock, Mimi L K Tang, Fiona K Mensah, Monica L Nation, Catherine Satzke, Ralf G Heine, Amanda Stock, Ronald G Barr, and Melissa W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48():g2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pril 1,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4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1 Participant flow through stud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9240" y="1079640"/>
            <a:ext cx="550692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92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alerie Sung et al. BMJ 2014;348:bmj.g21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4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2 Daily duration of cry or fuss over study period and at 6 month follow-u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9800" y="2717640"/>
            <a:ext cx="8604360" cy="211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alerie Sung et al. BMJ 2014;348:bmj.g21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4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3 Meta-analysis of previous randomised controlled trials of probiotics for management of infant colic (outcomes at 21 days post-intervention)3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9800" y="2637000"/>
            <a:ext cx="8604360" cy="2278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alerie Sung et al. BMJ 2014;348:bmj.g21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4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4 Meta-analysis of previous randomised controlled trials of probiotics for management of infant colic with addition of results from this stud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9800" y="2522520"/>
            <a:ext cx="8604360" cy="2506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alerie Sung et al. BMJ 2014;348:bmj.g21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4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