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 1</a:t>
            </a:r>
            <a:r>
              <a:rPr b="0" lang="en-GB" sz="1200" spc="-1" strike="noStrike">
                <a:solidFill>
                  <a:srgbClr val="000000"/>
                </a:solidFill>
                <a:latin typeface="Arial"/>
                <a:ea typeface="msgothic"/>
              </a:rPr>
              <a:t> Steps involved in study identification and sele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 2</a:t>
            </a:r>
            <a:r>
              <a:rPr b="0" lang="en-GB" sz="1200" spc="-1" strike="noStrike">
                <a:solidFill>
                  <a:srgbClr val="000000"/>
                </a:solidFill>
                <a:latin typeface="Arial"/>
                <a:ea typeface="msgothic"/>
              </a:rPr>
              <a:t> Network of available comparisons between exercise and individual drug interventions in coronary heart disease, stroke, heart failure, and prediabetes. Size of node is proportional to number of trial participants, and thickness of line connecting nodes is proportional to number of participants randomised in trials directly comparing the two treatments. ACE=angiotensin converting enzym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 3</a:t>
            </a:r>
            <a:r>
              <a:rPr b="0" lang="en-GB" sz="1200" spc="-1" strike="noStrike">
                <a:solidFill>
                  <a:srgbClr val="000000"/>
                </a:solidFill>
                <a:latin typeface="Arial"/>
                <a:ea typeface="msgothic"/>
              </a:rPr>
              <a:t> Network of available comparisons between exercise and all drug interventions in coronary heart disease, stroke, heart failure, and prediabetes. Size of node is proportional to number of trial participants, and thickness of line connecting nodes is proportional to number of participants randomised in trials directly comparing the two treatme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 4</a:t>
            </a:r>
            <a:r>
              <a:rPr b="0" lang="en-GB" sz="1200" spc="-1" strike="noStrike">
                <a:solidFill>
                  <a:srgbClr val="000000"/>
                </a:solidFill>
                <a:latin typeface="Arial"/>
                <a:ea typeface="msgothic"/>
              </a:rPr>
              <a:t> Findings of network meta-analysis: effects of exercise and drug interventions compared with control on mortality outcomes in coronary heart disease, stroke, heart failure, and prediabetes. Results shown are odds ratios and 95% credible intervals. Odds ratios lower than 1.00 favour intervention compared with control. ACE=angiotensin converting enzyme. *Number of data points for thiazolidinediones was insufficient to obtain an estimate of odds ratio compared with contr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omparative effectiveness of exercise and drug interventions on mortality outcomes: metaepidemiological study</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Huseyin Naci, and John P A Ioannidi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MJ</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47():f557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October 1, 201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3 by British Medical Journal Publishing Group</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280360" y="6480000"/>
            <a:ext cx="1258920" cy="827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1 Steps involved in study identification and selectio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280360" y="6480000"/>
            <a:ext cx="1258920" cy="827280"/>
          </a:xfrm>
          <a:prstGeom prst="rect">
            <a:avLst/>
          </a:prstGeom>
          <a:ln w="0">
            <a:noFill/>
          </a:ln>
        </p:spPr>
      </p:pic>
      <p:pic>
        <p:nvPicPr>
          <p:cNvPr id="48" name="" descr=""/>
          <p:cNvPicPr/>
          <p:nvPr/>
        </p:nvPicPr>
        <p:blipFill>
          <a:blip r:embed="rId2"/>
          <a:stretch/>
        </p:blipFill>
        <p:spPr>
          <a:xfrm>
            <a:off x="739800" y="1127160"/>
            <a:ext cx="8604360" cy="5297400"/>
          </a:xfrm>
          <a:prstGeom prst="rect">
            <a:avLst/>
          </a:prstGeom>
          <a:ln w="0">
            <a:noFill/>
          </a:ln>
        </p:spPr>
      </p:pic>
      <p:sp>
        <p:nvSpPr>
          <p:cNvPr id="4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useyin Naci, and John P A Ioannidis BMJ 2013;347:bmj.f5577</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3 by British Medical Journal Publishing Group</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2 Network of available comparisons between exercise and individual drug interventions in coronary heart disease, stroke, heart failure, and prediabete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280360" y="6480000"/>
            <a:ext cx="1258920" cy="827280"/>
          </a:xfrm>
          <a:prstGeom prst="rect">
            <a:avLst/>
          </a:prstGeom>
          <a:ln w="0">
            <a:noFill/>
          </a:ln>
        </p:spPr>
      </p:pic>
      <p:pic>
        <p:nvPicPr>
          <p:cNvPr id="53" name="" descr=""/>
          <p:cNvPicPr/>
          <p:nvPr/>
        </p:nvPicPr>
        <p:blipFill>
          <a:blip r:embed="rId2"/>
          <a:stretch/>
        </p:blipFill>
        <p:spPr>
          <a:xfrm>
            <a:off x="1441440" y="1079640"/>
            <a:ext cx="7201080" cy="5394240"/>
          </a:xfrm>
          <a:prstGeom prst="rect">
            <a:avLst/>
          </a:prstGeom>
          <a:ln w="0">
            <a:noFill/>
          </a:ln>
        </p:spPr>
      </p:pic>
      <p:sp>
        <p:nvSpPr>
          <p:cNvPr id="54" name=""/>
          <p:cNvSpPr/>
          <p:nvPr/>
        </p:nvSpPr>
        <p:spPr>
          <a:xfrm>
            <a:off x="14414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useyin Naci, and John P A Ioannidis BMJ 2013;347:bmj.f5577</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3 by British Medical Journal Publishing Group</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3 Network of available comparisons between exercise and all drug interventions in coronary heart disease, stroke, heart failure, and prediabete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280360" y="6480000"/>
            <a:ext cx="1258920" cy="827280"/>
          </a:xfrm>
          <a:prstGeom prst="rect">
            <a:avLst/>
          </a:prstGeom>
          <a:ln w="0">
            <a:noFill/>
          </a:ln>
        </p:spPr>
      </p:pic>
      <p:pic>
        <p:nvPicPr>
          <p:cNvPr id="58" name="" descr=""/>
          <p:cNvPicPr/>
          <p:nvPr/>
        </p:nvPicPr>
        <p:blipFill>
          <a:blip r:embed="rId2"/>
          <a:stretch/>
        </p:blipFill>
        <p:spPr>
          <a:xfrm>
            <a:off x="966960" y="1079640"/>
            <a:ext cx="8153280" cy="5394240"/>
          </a:xfrm>
          <a:prstGeom prst="rect">
            <a:avLst/>
          </a:prstGeom>
          <a:ln w="0">
            <a:noFill/>
          </a:ln>
        </p:spPr>
      </p:pic>
      <p:sp>
        <p:nvSpPr>
          <p:cNvPr id="59" name=""/>
          <p:cNvSpPr/>
          <p:nvPr/>
        </p:nvSpPr>
        <p:spPr>
          <a:xfrm>
            <a:off x="96696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useyin Naci, and John P A Ioannidis BMJ 2013;347:bmj.f5577</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3 by British Medical Journal Publishing Grou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4 Findings of network meta-analysis: effects of exercise and drug interventions compared with control on mortality outcomes in coronary heart disease, stroke, heart failure, and prediabete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280360" y="6480000"/>
            <a:ext cx="1258920" cy="827280"/>
          </a:xfrm>
          <a:prstGeom prst="rect">
            <a:avLst/>
          </a:prstGeom>
          <a:ln w="0">
            <a:noFill/>
          </a:ln>
        </p:spPr>
      </p:pic>
      <p:pic>
        <p:nvPicPr>
          <p:cNvPr id="63" name="" descr=""/>
          <p:cNvPicPr/>
          <p:nvPr/>
        </p:nvPicPr>
        <p:blipFill>
          <a:blip r:embed="rId2"/>
          <a:stretch/>
        </p:blipFill>
        <p:spPr>
          <a:xfrm>
            <a:off x="1954080" y="1079640"/>
            <a:ext cx="6177240" cy="5394240"/>
          </a:xfrm>
          <a:prstGeom prst="rect">
            <a:avLst/>
          </a:prstGeom>
          <a:ln w="0">
            <a:noFill/>
          </a:ln>
        </p:spPr>
      </p:pic>
      <p:sp>
        <p:nvSpPr>
          <p:cNvPr id="64" name=""/>
          <p:cNvSpPr/>
          <p:nvPr/>
        </p:nvSpPr>
        <p:spPr>
          <a:xfrm>
            <a:off x="19540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useyin Naci, and John P A Ioannidis BMJ 2013;347:bmj.f5577</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3 by British Medical Journal Publishing Group</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