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rial profile of participants in study of double or standard dose oseltamivir for treatment of severe influ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f double dose oseltamivir on clinical and virological outcomes in children and adults admitted to hospital with severe influenza: double blind randomised controlled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46():f30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30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ial profile of participants in study of double or standard dose oseltamivir for treatment of severe influenz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20720" y="1079640"/>
            <a:ext cx="68439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207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uth East Asia Infectious Disease Clinical Research Network BMJ 2013;346:bmj.f30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