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low of participants through 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ig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portion of patients scoring &lt;8 (negative status) on alcohol use disorders identification test, representing non-hazardous or non-harmful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iveness of screening and brief alcohol intervention in primary care (SIPS trial): pragmatic cluster randomised controlled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Eileen Kaner, Martin Bland, Paul Cassidy, Simon Coulton, Veronica Dale, Paolo Deluca, Eilish Gilvarry, Christine Godfrey, Nick Heather, Judy Myles, Dorothy Newbury-Birch, Adenekan Oyefeso, Steve Parrott, Katherine Perryman, Tom Phillips, Jonathan Shepherd, and Colin Drum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46():e85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9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1 Flow of participants through tr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00360" y="1079640"/>
            <a:ext cx="64846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00360" y="6583320"/>
            <a:ext cx="43192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ileen Kaner et al. BMJ 2013;346:bmj.e8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g 2 Proportion of patients scoring &lt;8 (negative status) on alcohol use disorders identification test, representing non-hazardous or non-harmful drink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80360" y="648000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8120" y="1079640"/>
            <a:ext cx="74091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81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ileen Kaner et al. BMJ 2013;346:bmj.e8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