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 1</a:t>
            </a:r>
            <a:r>
              <a:rPr b="0" lang="en-GB" sz="1200" spc="-1" strike="noStrike">
                <a:solidFill>
                  <a:srgbClr val="000000"/>
                </a:solidFill>
                <a:latin typeface="Arial"/>
                <a:ea typeface="msgothic"/>
              </a:rPr>
              <a:t> Framework of four different types of prognosis research question, illustrated for breast cancer. a) Fundamental prognosis research: variations between countries in age adjusted, five year survival (with permission from Cancer Research UK6). b) Prognostic factor research: survival curves showing that patients with “positive” values (&gt;8.9 ng/mL) of the extracellular domain of human epidermal growth factor receptor 2 (HER2 ECD) have a worse survival than those with negative values (≤8.9 ng/mL), and thus HER ECD is a potential prognostic factor (from Tsai et al7). c) Prognostic model research: use of multiple clinical variables in a model to estimate risk of endpoint, and then combined with evidence of treatment effectiveness to inform clinical decisions (ER=oestrogen receptor) (from Adjuvant! Online8). d) Stratified medicine research: predictors of differential treatment response identified in randomised trials, showing that the benefit of tamoxifen is confined to those with positive oestrogen receptor (ER) status (based on data from Early Breast Cancer Trialists Collaborative Group9)</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 2</a:t>
            </a:r>
            <a:r>
              <a:rPr b="0" lang="en-GB" sz="1200" spc="-1" strike="noStrike">
                <a:solidFill>
                  <a:srgbClr val="000000"/>
                </a:solidFill>
                <a:latin typeface="Arial"/>
                <a:ea typeface="msgothic"/>
              </a:rPr>
              <a:t> Example of use of fundamental prognosis research to examine variations in outcomes from medical care: inter-hospital variation in mortality per 100 population within 30 days of admission with acute myocardial infarction (created using fictional data for illustration purposes, but based on the findings of Krumholz et al18)</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 3</a:t>
            </a:r>
            <a:r>
              <a:rPr b="0" lang="en-GB" sz="1200" spc="-1" strike="noStrike">
                <a:solidFill>
                  <a:srgbClr val="000000"/>
                </a:solidFill>
                <a:latin typeface="Arial"/>
                <a:ea typeface="msgothic"/>
              </a:rPr>
              <a:t> Example of use of fundamental prognosis research to discover new associations between diseases: cancer among non-smoking people with Parkinson’s disease (drawn using data from Bajaj et al42). Path element adapted from chart 7.1 in the Cooksey report (2006) http://bit.ly/Ro27rL (made available for use through the Open Government License)</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 4</a:t>
            </a:r>
            <a:r>
              <a:rPr b="0" lang="en-GB" sz="1200" spc="-1" strike="noStrike">
                <a:solidFill>
                  <a:srgbClr val="000000"/>
                </a:solidFill>
                <a:latin typeface="Arial"/>
                <a:ea typeface="msgothic"/>
              </a:rPr>
              <a:t> Example of use of fundamental prognosis research to define clinically relevant subgroups: duration of low back pain at presentation (&lt;3 or ≥3 years) and the time to improvement of disability disease (drawn using data from Dunn et al46). Path element adapted from chart 7.1 in the Cooksey report (2006) http://bit.ly/Ro27rL (made available for use through the Open Government License)</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 5</a:t>
            </a:r>
            <a:r>
              <a:rPr b="0" lang="en-GB" sz="1200" spc="-1" strike="noStrike">
                <a:solidFill>
                  <a:srgbClr val="000000"/>
                </a:solidFill>
                <a:latin typeface="Arial"/>
                <a:ea typeface="msgothic"/>
              </a:rPr>
              <a:t> Example of use of fundamental prognosis research to distinguish clinically relevant groups: people admitted with suspected acute myocardial infarction (results based on an analysis of 180 000 patients in the Myocardial Ischaemia National Audit Project, A Timmis and H Hemingway personal communication)</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rognosis research strategy (PROGRESS) 1: A framework for researching clinical outcom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Harry Hemingway, Peter Croft, Pablo Perel, Jill A Hayden, Keith Abrams, Adam Timmis, Andrew Briggs, Ruzan Udumyan, Karel G M Moons, Ewout W Steyerberg, Ian Roberts, Sara Schroter, Douglas G Altman, and Richard D Riley</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46():e559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5, 201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280360" y="6480000"/>
            <a:ext cx="12589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27082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1 Framework of four different types of prognosis research question, illustrated for breast cancer. a) Fundamental prognosis research: variations between countries in age adjusted, five year survival (with permission from Cancer Research UK6). b) Prognostic factor research: survival curves showing that patients with “positive” values (&gt;8.9 ng/mL) of the extracellular domain of human epidermal growth factor receptor 2 (HER2 ECD) have a worse survival than those with negative values (≤8.9 ng/mL), and thus HER ECD is a potential prognostic factor (from Tsai et al7). c) Prognostic model research: use of multiple clinical variables in a model to estimate risk of endpoint, and then combined with evidence of treatment effectiveness to inform clinical decisions (ER=oestrogen receptor) (from Adjuvant! Online8). d) Stratified medicine research: predictors of differential treatment response identified in randomised trials, showing that the benefit of tamoxifen is confined to those with positive oestrogen receptor (ER) status (based on data from Early Breast Cancer Trialists Collaborative Group9).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280360" y="6480000"/>
            <a:ext cx="1258920" cy="827280"/>
          </a:xfrm>
          <a:prstGeom prst="rect">
            <a:avLst/>
          </a:prstGeom>
          <a:ln w="0">
            <a:noFill/>
          </a:ln>
        </p:spPr>
      </p:pic>
      <p:pic>
        <p:nvPicPr>
          <p:cNvPr id="48" name="" descr=""/>
          <p:cNvPicPr/>
          <p:nvPr/>
        </p:nvPicPr>
        <p:blipFill>
          <a:blip r:embed="rId2"/>
          <a:stretch/>
        </p:blipFill>
        <p:spPr>
          <a:xfrm>
            <a:off x="2451240" y="1079640"/>
            <a:ext cx="5184720" cy="5394240"/>
          </a:xfrm>
          <a:prstGeom prst="rect">
            <a:avLst/>
          </a:prstGeom>
          <a:ln w="0">
            <a:noFill/>
          </a:ln>
        </p:spPr>
      </p:pic>
      <p:sp>
        <p:nvSpPr>
          <p:cNvPr id="49" name=""/>
          <p:cNvSpPr/>
          <p:nvPr/>
        </p:nvSpPr>
        <p:spPr>
          <a:xfrm>
            <a:off x="24512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rry Hemingway et al. BMJ 2013;346:bmj.e5595</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British Medical Journal Publishing Group</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2 Example of use of fundamental prognosis research to examine variations in outcomes from medical care: inter-hospital variation in mortality per 100 population within 30 days of admission with acute myocardial infarction (created using fictional data for illustration purposes, but based on the findings of Krumholz et al18).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280360" y="6480000"/>
            <a:ext cx="1258920" cy="827280"/>
          </a:xfrm>
          <a:prstGeom prst="rect">
            <a:avLst/>
          </a:prstGeom>
          <a:ln w="0">
            <a:noFill/>
          </a:ln>
        </p:spPr>
      </p:pic>
      <p:pic>
        <p:nvPicPr>
          <p:cNvPr id="53" name="" descr=""/>
          <p:cNvPicPr/>
          <p:nvPr/>
        </p:nvPicPr>
        <p:blipFill>
          <a:blip r:embed="rId2"/>
          <a:stretch/>
        </p:blipFill>
        <p:spPr>
          <a:xfrm>
            <a:off x="1471680" y="1079640"/>
            <a:ext cx="7140600" cy="5394240"/>
          </a:xfrm>
          <a:prstGeom prst="rect">
            <a:avLst/>
          </a:prstGeom>
          <a:ln w="0">
            <a:noFill/>
          </a:ln>
        </p:spPr>
      </p:pic>
      <p:sp>
        <p:nvSpPr>
          <p:cNvPr id="54" name=""/>
          <p:cNvSpPr/>
          <p:nvPr/>
        </p:nvSpPr>
        <p:spPr>
          <a:xfrm>
            <a:off x="1471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rry Hemingway et al. BMJ 2013;346:bmj.e5595</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British Medical Journal Publishing Group</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3 Example of use of fundamental prognosis research to discover new associations between diseases: cancer among non-smoking people with Parkinson’s disease (drawn using data from Bajaj et al42).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280360" y="6480000"/>
            <a:ext cx="1258920" cy="827280"/>
          </a:xfrm>
          <a:prstGeom prst="rect">
            <a:avLst/>
          </a:prstGeom>
          <a:ln w="0">
            <a:noFill/>
          </a:ln>
        </p:spPr>
      </p:pic>
      <p:pic>
        <p:nvPicPr>
          <p:cNvPr id="58" name="" descr=""/>
          <p:cNvPicPr/>
          <p:nvPr/>
        </p:nvPicPr>
        <p:blipFill>
          <a:blip r:embed="rId2"/>
          <a:stretch/>
        </p:blipFill>
        <p:spPr>
          <a:xfrm>
            <a:off x="3343320" y="1079640"/>
            <a:ext cx="3397320" cy="5394240"/>
          </a:xfrm>
          <a:prstGeom prst="rect">
            <a:avLst/>
          </a:prstGeom>
          <a:ln w="0">
            <a:noFill/>
          </a:ln>
        </p:spPr>
      </p:pic>
      <p:sp>
        <p:nvSpPr>
          <p:cNvPr id="59" name=""/>
          <p:cNvSpPr/>
          <p:nvPr/>
        </p:nvSpPr>
        <p:spPr>
          <a:xfrm>
            <a:off x="3343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rry Hemingway et al. BMJ 2013;346:bmj.e5595</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British Medical Journal Publishing Grou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4 Example of use of fundamental prognosis research to define clinically relevant subgroups: duration of low back pain at presentation (&lt;3 or ≥3 years) and the time to improvement of disability disease (drawn using data from Dunn et al46).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280360" y="6480000"/>
            <a:ext cx="1258920" cy="827280"/>
          </a:xfrm>
          <a:prstGeom prst="rect">
            <a:avLst/>
          </a:prstGeom>
          <a:ln w="0">
            <a:noFill/>
          </a:ln>
        </p:spPr>
      </p:pic>
      <p:pic>
        <p:nvPicPr>
          <p:cNvPr id="63" name="" descr=""/>
          <p:cNvPicPr/>
          <p:nvPr/>
        </p:nvPicPr>
        <p:blipFill>
          <a:blip r:embed="rId2"/>
          <a:stretch/>
        </p:blipFill>
        <p:spPr>
          <a:xfrm>
            <a:off x="1060560" y="1079640"/>
            <a:ext cx="7964280" cy="5394240"/>
          </a:xfrm>
          <a:prstGeom prst="rect">
            <a:avLst/>
          </a:prstGeom>
          <a:ln w="0">
            <a:noFill/>
          </a:ln>
        </p:spPr>
      </p:pic>
      <p:sp>
        <p:nvSpPr>
          <p:cNvPr id="64" name=""/>
          <p:cNvSpPr/>
          <p:nvPr/>
        </p:nvSpPr>
        <p:spPr>
          <a:xfrm>
            <a:off x="1060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rry Hemingway et al. BMJ 2013;346:bmj.e5595</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British Medical Journal Publishing Group</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5 Example of use of fundamental prognosis research to distinguish clinically relevant groups: people admitted with suspected acute myocardial infarction (results based on an analysis of 180 000 patients in the Myocardial Ischaemia National Audit Project, A Timmis and H Hemingway personal communication).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8280360" y="6480000"/>
            <a:ext cx="1258920" cy="827280"/>
          </a:xfrm>
          <a:prstGeom prst="rect">
            <a:avLst/>
          </a:prstGeom>
          <a:ln w="0">
            <a:noFill/>
          </a:ln>
        </p:spPr>
      </p:pic>
      <p:pic>
        <p:nvPicPr>
          <p:cNvPr id="68" name="" descr=""/>
          <p:cNvPicPr/>
          <p:nvPr/>
        </p:nvPicPr>
        <p:blipFill>
          <a:blip r:embed="rId2"/>
          <a:stretch/>
        </p:blipFill>
        <p:spPr>
          <a:xfrm>
            <a:off x="1663560" y="1079640"/>
            <a:ext cx="6756480" cy="5394240"/>
          </a:xfrm>
          <a:prstGeom prst="rect">
            <a:avLst/>
          </a:prstGeom>
          <a:ln w="0">
            <a:noFill/>
          </a:ln>
        </p:spPr>
      </p:pic>
      <p:sp>
        <p:nvSpPr>
          <p:cNvPr id="69" name=""/>
          <p:cNvSpPr/>
          <p:nvPr/>
        </p:nvSpPr>
        <p:spPr>
          <a:xfrm>
            <a:off x="1663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rry Hemingway et al. BMJ 2013;346:bmj.e5595</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