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 chart of trial participants. *Requested to discontinue the exercise programme; does not include some participants who were not exercising in the final month (LiFE, n=10; structured, n=18; control, n=19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gration of balance and strength training into daily life activity to reduce rate of falls in older people (the LiFE study): randomised parallel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indy Clemson, Maria A Fiatarone Singh, Anita Bundy, Robert G Cumming, Kate Manollaras, Patricia O’Loughlin, and Deborah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5():e45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ugust 7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 chart of trial participants. *Requested to discontinue the exercise programme; does not include some participants who were not exercising in the final month (LiFE, n=10; structured, n=18; control, n=1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27120" y="1079640"/>
            <a:ext cx="52311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27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ndy Clemson et al. BMJ 2012;345:bmj.e45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