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Fig 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Inclusion and exclusion of derivation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Fig 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Median and upper centiles of respiratory rate expected at different temperatures for children of different ag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rivation and validation of age and temperature specific reference values and centile charts to predict lower respiratory tract infection in children with fever: prospective observational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R G Nijman, M Thompson, M van Veen, R Perera, H A Moll, and R Oostenbr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M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345():e42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uly 3,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2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g 1 Inclusion and exclusion of derivation popula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39800" y="1833480"/>
            <a:ext cx="8604360" cy="3884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 G Nijman et al. BMJ 2012;345:bmj.e42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2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g 2 Median and upper centiles of respiratory rate expected at different temperatures for children of different age grou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39800" y="1228680"/>
            <a:ext cx="8604360" cy="5094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 G Nijman et al. BMJ 2012;345:bmj.e42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2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