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1 Design of a test-treatment randomised trial assessing whether bronchoalveolar lavage reduces the rate of death from ventilator associated pneumonia compared with endotracheal aspiration.7 *All patients received broad spectrum antibiotics while waiting for test results. †In patients with confirmed pneumonia, antibiotics were adjusted using culture results and sensitivities; in test negative patients, antibiotics were discontinu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2 Simplified test-treatment pathway showing each component of a patient’s management that can affect health outcomes1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3 Sample size calculations for test-treatment randomised controlled trials. In randomised trials of interventions, all participants in a study group are allocated to receive the same intervention. In test-treatment trials, participants in each group receive a variety of interventions, depending on the test results and ensuing diagnosis. The magnitude of the observed treatment effect depends on the differences in proportions of patients who receive interventions appropriate to their condition in each group. This proportion would be expected to be quite small. The figure identifies those participants who contribute statistical power in a randomised trial comparing two tests (where the difference in outcome originates entirely from a difference in diagnostic accuracy). Test 2 has higher sensitivity than test 1 (difference shown in A). Test 2 also has higher specificity than test 1 (difference shown in B). Different widths of diseased and non-diseased columns indicate the prevalence of disease in the study sample. Only participants in A and B would have different test results if they received test 2 rather than test 1 and therefore the potential for different outcomes (all other participants in the study would have the same test result, irrespective of which test they were allocated to). Statistical power therefore depends on only the numbers of participants in A and B (particularly A); for example, if disease prevalence was 20%, and test 2 improved sensitivity by 20%, only 4% of the total sample size would fall in A3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Assessing the value of diagnostic tests: a framework for designing and evaluating trial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Lavinia Ferrante di Ruffano, Christopher J Hyde, Kirsten J McCaffery, Patrick M M Bossuyt, and Jonathan J Deek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44():e68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21, 201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280360" y="6480000"/>
            <a:ext cx="12589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11286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1 Design of a test-treatment randomised trial assessing whether bronchoalveolar lavage reduces the rate of death from ventilator associated pneumonia compared with endotracheal aspiration.7 *All patients received broad spectrum antibiotics while waiting for test results. †In patients with confirmed pneumonia, antibiotics were adjusted using culture results and sensitivities; in test negative patients, antibiotics were discontinued.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280360" y="6480000"/>
            <a:ext cx="1258920" cy="827280"/>
          </a:xfrm>
          <a:prstGeom prst="rect">
            <a:avLst/>
          </a:prstGeom>
          <a:ln w="0">
            <a:noFill/>
          </a:ln>
        </p:spPr>
      </p:pic>
      <p:pic>
        <p:nvPicPr>
          <p:cNvPr id="48" name="" descr=""/>
          <p:cNvPicPr/>
          <p:nvPr/>
        </p:nvPicPr>
        <p:blipFill>
          <a:blip r:embed="rId2"/>
          <a:stretch/>
        </p:blipFill>
        <p:spPr>
          <a:xfrm>
            <a:off x="2454120" y="1079640"/>
            <a:ext cx="5175360" cy="5394240"/>
          </a:xfrm>
          <a:prstGeom prst="rect">
            <a:avLst/>
          </a:prstGeom>
          <a:ln w="0">
            <a:noFill/>
          </a:ln>
        </p:spPr>
      </p:pic>
      <p:sp>
        <p:nvSpPr>
          <p:cNvPr id="49" name=""/>
          <p:cNvSpPr/>
          <p:nvPr/>
        </p:nvSpPr>
        <p:spPr>
          <a:xfrm>
            <a:off x="2454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avinia Ferrante di Ruffano et al. BMJ 2012;344:bmj.e68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British Medical Journal Publishing Group</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2 Simplified test-treatment pathway showing each component of a patient’s management that can affect health outcomes10.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280360" y="6480000"/>
            <a:ext cx="1258920" cy="827280"/>
          </a:xfrm>
          <a:prstGeom prst="rect">
            <a:avLst/>
          </a:prstGeom>
          <a:ln w="0">
            <a:noFill/>
          </a:ln>
        </p:spPr>
      </p:pic>
      <p:pic>
        <p:nvPicPr>
          <p:cNvPr id="53" name="" descr=""/>
          <p:cNvPicPr/>
          <p:nvPr/>
        </p:nvPicPr>
        <p:blipFill>
          <a:blip r:embed="rId2"/>
          <a:stretch/>
        </p:blipFill>
        <p:spPr>
          <a:xfrm>
            <a:off x="739800" y="1797120"/>
            <a:ext cx="8604360" cy="395928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avinia Ferrante di Ruffano et al. BMJ 2012;344:bmj.e68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British Medical Journal Publishing Group</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3 Sample size calculations for test-treatment randomised controlled trial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8280360" y="6480000"/>
            <a:ext cx="1258920" cy="827280"/>
          </a:xfrm>
          <a:prstGeom prst="rect">
            <a:avLst/>
          </a:prstGeom>
          <a:ln w="0">
            <a:noFill/>
          </a:ln>
        </p:spPr>
      </p:pic>
      <p:pic>
        <p:nvPicPr>
          <p:cNvPr id="58" name="" descr=""/>
          <p:cNvPicPr/>
          <p:nvPr/>
        </p:nvPicPr>
        <p:blipFill>
          <a:blip r:embed="rId2"/>
          <a:stretch/>
        </p:blipFill>
        <p:spPr>
          <a:xfrm>
            <a:off x="739800" y="2038320"/>
            <a:ext cx="8604360" cy="347508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Lavinia Ferrante di Ruffano et al. BMJ 2012;344:bmj.e68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