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dentification of articles to include in study of effect of loss to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tential impact on estimated treatment effects of information lost to follow-up in randomised controlled trials (LOST-IT): systematic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Elie A Akl, Matthias Briel, John J You, Xin Sun, Bradley C Johnston, Jason W Busse, Sohail Mulla, Francois Lamontagne, Dirk Bassler, Claudio Vera, Mohamad Alshurafa, Christina M Katsios, Qi Zhou, Tali Cukierman-Yaffe, Azim Gangji, Edward J Mills, Stephen D Walter, Deborah J Cook, Holger J Schünemann, Douglas G Altman, and Gordon H Guya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4():e28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18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1 Identification of articles to include in study of effect of loss to follow-u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05000" y="1079640"/>
            <a:ext cx="56736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5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lie A Akl et al. BMJ 2012;344:bmj.e28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