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dentification of studies in systematic review of effects of dietary and lifestyle interventions in pregnancy on maternal and fetal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Quality of randomised controlled trials included in systematic review of dietary and lifestyle interventions in pregnancy on maternal and fetal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ean difference in gestational weight gain (kg) with dietary and lifestyle interventions in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ean difference in birth weight (g) with dietary and lifestyle interventions in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Relative risk of effect on size for gestational age with dietary and lifestyle interventions in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Relative risk of effects of weight management interventions in pregnancy on maternal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Relative risk of effects of weight management interventions in pregnancy on fetal and neonatal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s of interventions in pregnancy on maternal weight and obstetric outcomes: meta-analysis of randomised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S Thangaratinam, E Rogozińska, K Jolly, S Glinkowski, T Roseboom, J W Tomlinson, R Kunz, B W Mol, A Coomarasamy, and K S K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44():e20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17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1 Identification of studies in systematic review of effects of dietary and lifestyle interventions in pregnancy on maternal and fetal outcom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2760" y="1079640"/>
            <a:ext cx="55198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2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 Thangaratinam et al. BMJ 2012;344:bmj.e20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2 Quality of randomised controlled trials included in systematic review of dietary and lifestyle interventions in pregnancy on maternal and fetal outcom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57520" y="1079640"/>
            <a:ext cx="65703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752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 Thangaratinam et al. BMJ 2012;344:bmj.e20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3 Mean difference in gestational weight gain (kg) with dietary and lifestyle interventions in pregnancy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800" y="2693880"/>
            <a:ext cx="8604360" cy="2163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 Thangaratinam et al. BMJ 2012;344:bmj.e20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4 Mean difference in birth weight (g) with dietary and lifestyle interventions in pregnancy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2673360"/>
            <a:ext cx="8604360" cy="220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 Thangaratinam et al. BMJ 2012;344:bmj.e20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5 Relative risk of effect on size for gestational age with dietary and lifestyle interventions in pregnancy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9800" y="1851120"/>
            <a:ext cx="8604360" cy="3851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 Thangaratinam et al. BMJ 2012;344:bmj.e20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6 Relative risk of effects of weight management interventions in pregnancy on maternal outcom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630520" y="1079640"/>
            <a:ext cx="482580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305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 Thangaratinam et al. BMJ 2012;344:bmj.e20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7 Relative risk of effects of weight management interventions in pregnancy on fetal and neonatal outcom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97120" y="1079640"/>
            <a:ext cx="648972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71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 Thangaratinam et al. BMJ 2012;344:bmj.e20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