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1 Study design and manuscript flow. *Additional reviews and measurement of minimisation variables were undertaken during the standard peer review process, but this information was concealed until the later editorial stag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2 Goodman quality scores at baseline. Bars contain proportion of scores from 1 (dark shade) to 5 (light shade), with cumulative percentages shown in the bottom scale. Gradation colour for the average quality was consequently adapted (break points are 2.5, 3.0, 3.5, and 4.0). Dots represent total mean for each specific i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3 Effect of additional reviews on overall and average quality in “as allocated” and “as reviewed” populations, and primary analysis stratified by study typ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4 Baseline and final Goodman quality scores in allocated groups. Numbers after the plus signs indicate the four manuscripts with protocol devi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5 Average author adherence to repeated reviewer suggestions based on 5 point Likert scale (1=minimum, 5=maximum). Rectangles represent the 51 papers from the additional review group, with paired suggestions both from conventional reviews (shown as the horizontal lines on each rectangle) and additional reviews (shown as the vertical lines of each rectangle). The side length of rectangles represents the amount of information from any type of review (square root of the number of suggestions per manuscript) and the rectangle area represents each paper’s overall information. A rectangle above the diagonal line indicates that a paper adhered more to the conventional review than to the additional review. For example, the asterisked rectangle corresponds to a manuscript receiving 14 suggestions (proportional to the square of the vertical sides) from the additional review with a 3.21 average level of adherence, and two suggestions (the square of the horizontal sides) from the conventional review with a mean adherence score of 5. Lines in the external margin represent papers from the conventional review group, and lines on the internal margin represent papers from the additional review group that received both conventional (lines along the vertical axis) and additional (lines along the horizontal axis) reviews; lines are repeated here to assist between group comparis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ffect of using reporting guidelines during peer review on quality of final manuscripts submitted to a biomedical journal: masked randomised trial</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E Cobo, J Cortés, J M Ribera, F Cardellach, A Selva-O’Callaghan, B Kostov, L García, L Cirugeda, D G Altman, J A González, J A Sànchez, F Miras, A Urrutia, V Fonollosa, C Rey-Joly, and M Vilardell</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43():d678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22, 201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280360" y="6480000"/>
            <a:ext cx="12589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1 Study design and manuscript flow. *Additional reviews and measurement of minimisation variables were undertaken during the standard peer review process, but this information was concealed until the later editorial stag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280360" y="6480000"/>
            <a:ext cx="1258920" cy="827280"/>
          </a:xfrm>
          <a:prstGeom prst="rect">
            <a:avLst/>
          </a:prstGeom>
          <a:ln w="0">
            <a:noFill/>
          </a:ln>
        </p:spPr>
      </p:pic>
      <p:pic>
        <p:nvPicPr>
          <p:cNvPr id="48" name="" descr=""/>
          <p:cNvPicPr/>
          <p:nvPr/>
        </p:nvPicPr>
        <p:blipFill>
          <a:blip r:embed="rId2"/>
          <a:stretch/>
        </p:blipFill>
        <p:spPr>
          <a:xfrm>
            <a:off x="2946240" y="1079640"/>
            <a:ext cx="4194360" cy="5394240"/>
          </a:xfrm>
          <a:prstGeom prst="rect">
            <a:avLst/>
          </a:prstGeom>
          <a:ln w="0">
            <a:noFill/>
          </a:ln>
        </p:spPr>
      </p:pic>
      <p:sp>
        <p:nvSpPr>
          <p:cNvPr id="49" name=""/>
          <p:cNvSpPr/>
          <p:nvPr/>
        </p:nvSpPr>
        <p:spPr>
          <a:xfrm>
            <a:off x="2946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 Cobo et al. BMJ 2011;343:bmj.d678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British Medical Journal Publishing Group</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2 Goodman quality scores at baselin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280360" y="6480000"/>
            <a:ext cx="1258920" cy="827280"/>
          </a:xfrm>
          <a:prstGeom prst="rect">
            <a:avLst/>
          </a:prstGeom>
          <a:ln w="0">
            <a:noFill/>
          </a:ln>
        </p:spPr>
      </p:pic>
      <p:pic>
        <p:nvPicPr>
          <p:cNvPr id="53" name="" descr=""/>
          <p:cNvPicPr/>
          <p:nvPr/>
        </p:nvPicPr>
        <p:blipFill>
          <a:blip r:embed="rId2"/>
          <a:stretch/>
        </p:blipFill>
        <p:spPr>
          <a:xfrm>
            <a:off x="1338120" y="1079640"/>
            <a:ext cx="7409160" cy="5394240"/>
          </a:xfrm>
          <a:prstGeom prst="rect">
            <a:avLst/>
          </a:prstGeom>
          <a:ln w="0">
            <a:noFill/>
          </a:ln>
        </p:spPr>
      </p:pic>
      <p:sp>
        <p:nvSpPr>
          <p:cNvPr id="54" name=""/>
          <p:cNvSpPr/>
          <p:nvPr/>
        </p:nvSpPr>
        <p:spPr>
          <a:xfrm>
            <a:off x="1338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 Cobo et al. BMJ 2011;343:bmj.d678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British Medical Journal Publishing Group</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3 Effect of additional reviews on overall and average quality in “as allocated” and “as reviewed” populations, and primary analysis stratified by study typ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280360" y="6480000"/>
            <a:ext cx="1258920" cy="827280"/>
          </a:xfrm>
          <a:prstGeom prst="rect">
            <a:avLst/>
          </a:prstGeom>
          <a:ln w="0">
            <a:noFill/>
          </a:ln>
        </p:spPr>
      </p:pic>
      <p:pic>
        <p:nvPicPr>
          <p:cNvPr id="58" name="" descr=""/>
          <p:cNvPicPr/>
          <p:nvPr/>
        </p:nvPicPr>
        <p:blipFill>
          <a:blip r:embed="rId2"/>
          <a:stretch/>
        </p:blipFill>
        <p:spPr>
          <a:xfrm>
            <a:off x="739800" y="1709640"/>
            <a:ext cx="8604360" cy="413388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 Cobo et al. BMJ 2011;343:bmj.d678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British Medical Journal Publishing Grou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4 Baseline and final Goodman quality scores in allocated group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280360" y="6480000"/>
            <a:ext cx="1258920" cy="827280"/>
          </a:xfrm>
          <a:prstGeom prst="rect">
            <a:avLst/>
          </a:prstGeom>
          <a:ln w="0">
            <a:noFill/>
          </a:ln>
        </p:spPr>
      </p:pic>
      <p:pic>
        <p:nvPicPr>
          <p:cNvPr id="63" name="" descr=""/>
          <p:cNvPicPr/>
          <p:nvPr/>
        </p:nvPicPr>
        <p:blipFill>
          <a:blip r:embed="rId2"/>
          <a:stretch/>
        </p:blipFill>
        <p:spPr>
          <a:xfrm>
            <a:off x="1407960" y="1079640"/>
            <a:ext cx="7269480" cy="5394240"/>
          </a:xfrm>
          <a:prstGeom prst="rect">
            <a:avLst/>
          </a:prstGeom>
          <a:ln w="0">
            <a:noFill/>
          </a:ln>
        </p:spPr>
      </p:pic>
      <p:sp>
        <p:nvSpPr>
          <p:cNvPr id="64" name=""/>
          <p:cNvSpPr/>
          <p:nvPr/>
        </p:nvSpPr>
        <p:spPr>
          <a:xfrm>
            <a:off x="1407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 Cobo et al. BMJ 2011;343:bmj.d678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British Medical Journal Publishing Group</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5 Average author adherence to repeated reviewer suggestions based on 5 point Likert scale (1=minimum, 5=maximum).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8280360" y="6480000"/>
            <a:ext cx="1258920" cy="827280"/>
          </a:xfrm>
          <a:prstGeom prst="rect">
            <a:avLst/>
          </a:prstGeom>
          <a:ln w="0">
            <a:noFill/>
          </a:ln>
        </p:spPr>
      </p:pic>
      <p:pic>
        <p:nvPicPr>
          <p:cNvPr id="68" name="" descr=""/>
          <p:cNvPicPr/>
          <p:nvPr/>
        </p:nvPicPr>
        <p:blipFill>
          <a:blip r:embed="rId2"/>
          <a:stretch/>
        </p:blipFill>
        <p:spPr>
          <a:xfrm>
            <a:off x="2073240" y="1079640"/>
            <a:ext cx="5937120" cy="5394240"/>
          </a:xfrm>
          <a:prstGeom prst="rect">
            <a:avLst/>
          </a:prstGeom>
          <a:ln w="0">
            <a:noFill/>
          </a:ln>
        </p:spPr>
      </p:pic>
      <p:sp>
        <p:nvSpPr>
          <p:cNvPr id="69" name=""/>
          <p:cNvSpPr/>
          <p:nvPr/>
        </p:nvSpPr>
        <p:spPr>
          <a:xfrm>
            <a:off x="2073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 Cobo et al. BMJ 2011;343:bmj.d678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