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 1 Distortion or loss of information about the true intervention can occur at each of four stages and the intervention may not reach practice without good reporting and trial fidelity (shaded boxes)</a:t>
            </a:r>
            <a:r>
              <a:rPr b="0" lang="en-GB" sz="1200" spc="-1" strike="noStrike">
                <a:solidFill>
                  <a:srgbClr val="000000"/>
                </a:solidFill>
                <a:latin typeface="Arial"/>
                <a:ea typeface="msgothic"/>
              </a:rPr>
              <a: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ig 2 Illustration of methods to develop a physical therapy treatment schedule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Taking healthcare interventions from trial to practic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Paul Glasziou, Iain Chalmers, Douglas G Altman, Hilda Bastian, Isabelle Boutron, Anne Brice, Gro Jamtvedt, Andrew Farmer, Davina Ghersi, Trish Groves, Carl Heneghan, Sophie Hill, Simon Lewin, Susan Michie, Rafael Perera, Valerie Pomeroy, Julie Tilson, Sasha Shepperd, and John W William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MJ</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41():c385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ugust 13, 2010</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British Medical Journal Publishing Group</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280360" y="6480000"/>
            <a:ext cx="1258920" cy="827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1 Distortion or loss of information about the true intervention can occur at each of four stages and the intervention may not reach practice without good reporting and trial fidelity (shaded boxe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280360" y="6480000"/>
            <a:ext cx="1258920" cy="827280"/>
          </a:xfrm>
          <a:prstGeom prst="rect">
            <a:avLst/>
          </a:prstGeom>
          <a:ln w="0">
            <a:noFill/>
          </a:ln>
        </p:spPr>
      </p:pic>
      <p:pic>
        <p:nvPicPr>
          <p:cNvPr id="48" name="" descr=""/>
          <p:cNvPicPr/>
          <p:nvPr/>
        </p:nvPicPr>
        <p:blipFill>
          <a:blip r:embed="rId2"/>
          <a:stretch/>
        </p:blipFill>
        <p:spPr>
          <a:xfrm>
            <a:off x="2724120" y="1079640"/>
            <a:ext cx="4635360" cy="5394240"/>
          </a:xfrm>
          <a:prstGeom prst="rect">
            <a:avLst/>
          </a:prstGeom>
          <a:ln w="0">
            <a:noFill/>
          </a:ln>
        </p:spPr>
      </p:pic>
      <p:sp>
        <p:nvSpPr>
          <p:cNvPr id="49" name=""/>
          <p:cNvSpPr/>
          <p:nvPr/>
        </p:nvSpPr>
        <p:spPr>
          <a:xfrm>
            <a:off x="2724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ul Glasziou et al. BMJ 2010;341:bmj.c3852</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British Medical Journal Publishing Group</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ig 2 Illustration of methods to develop a physical therapy treatment schedule5.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8280360" y="6480000"/>
            <a:ext cx="1258920" cy="827280"/>
          </a:xfrm>
          <a:prstGeom prst="rect">
            <a:avLst/>
          </a:prstGeom>
          <a:ln w="0">
            <a:noFill/>
          </a:ln>
        </p:spPr>
      </p:pic>
      <p:pic>
        <p:nvPicPr>
          <p:cNvPr id="53" name="" descr=""/>
          <p:cNvPicPr/>
          <p:nvPr/>
        </p:nvPicPr>
        <p:blipFill>
          <a:blip r:embed="rId2"/>
          <a:stretch/>
        </p:blipFill>
        <p:spPr>
          <a:xfrm>
            <a:off x="2119320" y="1079640"/>
            <a:ext cx="5846760" cy="5394240"/>
          </a:xfrm>
          <a:prstGeom prst="rect">
            <a:avLst/>
          </a:prstGeom>
          <a:ln w="0">
            <a:noFill/>
          </a:ln>
        </p:spPr>
      </p:pic>
      <p:sp>
        <p:nvSpPr>
          <p:cNvPr id="54" name=""/>
          <p:cNvSpPr/>
          <p:nvPr/>
        </p:nvSpPr>
        <p:spPr>
          <a:xfrm>
            <a:off x="2119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Paul Glasziou et al. BMJ 2010;341:bmj.c3852</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0 by British Medical Journal Publishing Group</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