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sldImg"/>
          </p:nvPr>
        </p:nvSpPr>
        <p:spPr>
          <a:xfrm>
            <a:off x="1587240" y="1006200"/>
            <a:ext cx="4593960" cy="34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1185480" y="4787640"/>
            <a:ext cx="5405400" cy="38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56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Fig 1 Timing of symptom presentation to primary care in cases and controls. Time 0 is date of diagnosis in case. Y axes have different scales and show number of recordings of symptom each day per 1000 pati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56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Fig 2 Positive predictive values (95% confidence intervals) for ovarian cancer for individual risk markers and for pairs of risk markers in combination (against background risk of 0.04%). Confidence intervals not calculated when any value was &lt;5 (invariably this was because too few controls had both features). NC=not calculated, as fewer than five women had the combin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73944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1490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64932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55920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73944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64932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55920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739440" y="62676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490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727280" indent="-21600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15892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15892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15892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39800" y="627120"/>
            <a:ext cx="860436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isk of ovarian cancer in women with symptoms in primary care: population based case-control stu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39800" y="2259000"/>
            <a:ext cx="8604360" cy="30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by William Hamilton, Tim J Peters, Clare Bankhead, and Deborah Shar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38360" y="5641920"/>
            <a:ext cx="860400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BM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Volume 339():b299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August 25, 200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08000" y="7289640"/>
            <a:ext cx="54356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5680" indent="-8568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©2009 by British Medical Journal Publishing Grou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8280360" y="6480000"/>
            <a:ext cx="1258920" cy="82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58920" y="420840"/>
            <a:ext cx="936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ig 1 Timing of symptom presentation to primary care in cases and control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8280360" y="6480000"/>
            <a:ext cx="1258920" cy="8272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3925800" y="1079640"/>
            <a:ext cx="2233800" cy="53942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925800" y="6583320"/>
            <a:ext cx="43196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William Hamilton et al. BMJ 2009;339:bmj.b299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08000" y="7289640"/>
            <a:ext cx="54356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5680" indent="-8568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©2009 by British Medical Journal Publishing Grou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420840"/>
            <a:ext cx="936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ig 2 Positive predictive values (95% confidence intervals) for ovarian cancer for individual risk markers and for pairs of risk markers in combination (against background risk of 0.04%)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8280360" y="6480000"/>
            <a:ext cx="1258920" cy="8272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739800" y="1185840"/>
            <a:ext cx="8604360" cy="51832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739800" y="6583320"/>
            <a:ext cx="43196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William Hamilton et al. BMJ 2009;339:bmj.b299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08000" y="7289640"/>
            <a:ext cx="54356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5680" indent="-8568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©2009 by British Medical Journal Publishing Grou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