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ost effectiveness acceptability curve for motivational enhancement therapy relative to social behaviour and network thera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st effectiveness of treatment for alcohol problems: findings of the randomised UK alcohol treatment trial (UKATT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M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331(7516):5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eptember 10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5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st effectiveness acceptability curve for motivational enhancement therapy relative to social behaviour and network therap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12920" y="1079640"/>
            <a:ext cx="566100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1292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KATT Research Team BMJ 2005;331:5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5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