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Number of systematic reviews in the Cochrane database of systematic reviews (CDSR) and in the database of abstracts of reviews of effect (DARE) according to the burden of disease for each major disease group; see bmj.com for disease categorie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Number of published systematic reviews and global burden of disease: database analysis</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George H Swingler, Jimmy Volmink, and John P A Ioannidis</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MJ</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327(7423):1083-1084</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November 8, 2003</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British Medical Journal Publishing Group</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8280360" y="6480000"/>
            <a:ext cx="1258920" cy="827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Number of systematic reviews in the Cochrane database of systematic reviews (CDSR) and in the database of abstracts of reviews of effect (DARE) according to the burden of disease for each major disease group; see bmj.com for disease categories.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8280360" y="6480000"/>
            <a:ext cx="1258920" cy="827280"/>
          </a:xfrm>
          <a:prstGeom prst="rect">
            <a:avLst/>
          </a:prstGeom>
          <a:ln w="0">
            <a:noFill/>
          </a:ln>
        </p:spPr>
      </p:pic>
      <p:pic>
        <p:nvPicPr>
          <p:cNvPr id="48" name="" descr=""/>
          <p:cNvPicPr/>
          <p:nvPr/>
        </p:nvPicPr>
        <p:blipFill>
          <a:blip r:embed="rId2"/>
          <a:stretch/>
        </p:blipFill>
        <p:spPr>
          <a:xfrm>
            <a:off x="3022560" y="1079640"/>
            <a:ext cx="4041720" cy="5394240"/>
          </a:xfrm>
          <a:prstGeom prst="rect">
            <a:avLst/>
          </a:prstGeom>
          <a:ln w="0">
            <a:noFill/>
          </a:ln>
        </p:spPr>
      </p:pic>
      <p:sp>
        <p:nvSpPr>
          <p:cNvPr id="49" name=""/>
          <p:cNvSpPr/>
          <p:nvPr/>
        </p:nvSpPr>
        <p:spPr>
          <a:xfrm>
            <a:off x="30225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George H Swingler et al. BMJ 2003;327:1083-1084</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3 by British Medical Journal Publishing Group</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