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rom intended population to admitte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ffect of screening for excessive drinking: number of patients with a positive outcome (reduction in drinking to below maximum recommended limits) per 1000 scre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reening in brief intervention trials targeting excessive drinkers in general practice: systematic review and meta-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ders Beich, Thorkil Thorsen, and Stephen Rolln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27(7414):536-5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6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intended population to admitted grou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78280" y="1079640"/>
            <a:ext cx="41306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828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ers Beich et al. BMJ 2003;327:536-5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ffect of screening for excessive drinking: number of patients with a positive outcome (reduction in drinking to below maximum recommended limits) per 1000 screen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1680" y="1079640"/>
            <a:ext cx="71406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1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ers Beich et al. BMJ 2003;327:536-5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