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iscrepancy between direct and adjusted indirect comparison defined as difference in estimated log relative risk (meta-analyses 1-39) or difference in estimated standardised mean difference (meta-analysis 40) or difference in estimated mean difference (meta-analyses 41-44): empirical evidence from 44 published meta-analyses (see webextra table A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tatistical discrepancy (z value, calculated by dividing difference between direct and indirect estimates by its standard error (z=Δ/SE(Δ)) and number of trials used in indirect compar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ombination of direct and adjusted indirect estimates in two meta-analy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lidity of indirect comparison for estimating efficacy of competing interventions: empirical evidence from published meta-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Fujian Song, Douglas G Altman, Anne-Marie Glenny, and Jonathan J D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26(7387):4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rch 1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screpancy between direct and adjusted indirect comparison defined as difference in estimated log relative risk (meta-analyses 1-39) or difference in estimated standardised mean difference (meta-analysis 40) or difference in estimated mean difference (meta-analyses 41-44): empirical evidence from 44 published meta-analyses (see webextra table A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800" y="1631880"/>
            <a:ext cx="8604360" cy="4289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jian Song et al. BMJ 2003;326: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istical discrepancy (z value, calculated by dividing difference between direct and indirect estimates by its standard error (z=Δ/SE(Δ)) and number of trials used in indirect comparis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27240" y="1079640"/>
            <a:ext cx="763092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272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jian Song et al. BMJ 2003;326: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bination of direct and adjusted indirect estimates in two meta-analys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93760" y="1079640"/>
            <a:ext cx="769932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937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jian Song et al. BMJ 2003;326: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