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ork flow in patient controlled, medical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Organisation of data items in a sample patient record on medical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 sample client interface for the medical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et based repository of medical records that retains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oy Schoenberg, and Charles Saf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21(7270):1199-12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11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k flow in patient controlled, medical information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76360" y="1079640"/>
            <a:ext cx="71341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763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 Schoenberg, and Charles Safran BMJ 2000;321:1199-1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ganisation of data items in a sample patient record on medical information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57280" y="1079640"/>
            <a:ext cx="53708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72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 Schoenberg, and Charles Safran BMJ 2000;321:1199-1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sample client interface for the medical information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98720" y="1079640"/>
            <a:ext cx="60897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98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 Schoenberg, and Charles Safran BMJ 2000;321:1199-1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