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lation between body mass index and systolic blood pressure in females in the intrauterine and infan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es malnutrition in utero determine diabetes and coronary heart disease in adulthood? Results from the Leningrad siege study, a cross sectiona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 A Stanner, K Bulmer, C Andrès, O E Lantseva, V Borodina, V V Poteen, and J S Yud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15(7119):1342-13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22,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7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ation between body mass index and systolic blood pressure in females in the intrauterine and infant grou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66800" y="1079640"/>
            <a:ext cx="67500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66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 A Stanner et al. BMJ 1997;315:1342-13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1997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