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ve risk of non-insulin dependent diabetes (log scale) adjusted for age with 95% confidence intervals, by fifth of body mass index relative to the lower fif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ve risk of non-insulin dependent diabetes (log scale) adjusted for age and body mass index with 95% confidence intervals, by fifths of systolic and diastolic blood pressure, heart rate, and concentrations of high density lipoprotein cholesterol, triglyceride, and uric acid relative to lower fifth of each variable. The x shows each relation adjusted for age alo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ve risk of non-insulin dependent diabetes (log scale) adjusted for age and body mass index with 95% confidence intervals, by (a) physical activity level and (b) alcohol intake. The x shows each relation adjusted for age alone. The lowest physical activity group (inactive) forms baseline group for this variable, and occasional drinkers form baseline group for alcohol intak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rospective study of risk factors for development of non-insulin dependent diabetes in middle aged British me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Ivan J Perry, S Goya Wannamethee, Mary K Walker, A G Thomson, Peter H Whincup, and A Gerald Shap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10(6979):560-56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4, 199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5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80360" y="6480000"/>
            <a:ext cx="12589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ve risk of non-insulin dependent diabetes (log scale) adjusted for age with 95% confidence intervals, by fifth of body mass index relative to the lower fifth.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80360" y="6480000"/>
            <a:ext cx="1258920" cy="827280"/>
          </a:xfrm>
          <a:prstGeom prst="rect">
            <a:avLst/>
          </a:prstGeom>
          <a:ln w="0">
            <a:noFill/>
          </a:ln>
        </p:spPr>
      </p:pic>
      <p:pic>
        <p:nvPicPr>
          <p:cNvPr id="48" name="" descr=""/>
          <p:cNvPicPr/>
          <p:nvPr/>
        </p:nvPicPr>
        <p:blipFill>
          <a:blip r:embed="rId2"/>
          <a:stretch/>
        </p:blipFill>
        <p:spPr>
          <a:xfrm>
            <a:off x="1822320" y="1079640"/>
            <a:ext cx="6438960" cy="5394240"/>
          </a:xfrm>
          <a:prstGeom prst="rect">
            <a:avLst/>
          </a:prstGeom>
          <a:ln w="0">
            <a:noFill/>
          </a:ln>
        </p:spPr>
      </p:pic>
      <p:sp>
        <p:nvSpPr>
          <p:cNvPr id="49" name=""/>
          <p:cNvSpPr/>
          <p:nvPr/>
        </p:nvSpPr>
        <p:spPr>
          <a:xfrm>
            <a:off x="1822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van J Perry et al. BMJ 1995;310:560-56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5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ve risk of non-insulin dependent diabetes (log scale) adjusted for age and body mass index with 95% confidence intervals, by fifths of systolic and diastolic blood pressure, heart rate, and concentrations of high density lipoprotein cholesterol, triglyceride, and uric acid relative to lower fifth of each variabl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280360" y="6480000"/>
            <a:ext cx="1258920" cy="827280"/>
          </a:xfrm>
          <a:prstGeom prst="rect">
            <a:avLst/>
          </a:prstGeom>
          <a:ln w="0">
            <a:noFill/>
          </a:ln>
        </p:spPr>
      </p:pic>
      <p:pic>
        <p:nvPicPr>
          <p:cNvPr id="53" name="" descr=""/>
          <p:cNvPicPr/>
          <p:nvPr/>
        </p:nvPicPr>
        <p:blipFill>
          <a:blip r:embed="rId2"/>
          <a:stretch/>
        </p:blipFill>
        <p:spPr>
          <a:xfrm>
            <a:off x="2762280" y="1079640"/>
            <a:ext cx="4559400" cy="5394240"/>
          </a:xfrm>
          <a:prstGeom prst="rect">
            <a:avLst/>
          </a:prstGeom>
          <a:ln w="0">
            <a:noFill/>
          </a:ln>
        </p:spPr>
      </p:pic>
      <p:sp>
        <p:nvSpPr>
          <p:cNvPr id="54" name=""/>
          <p:cNvSpPr/>
          <p:nvPr/>
        </p:nvSpPr>
        <p:spPr>
          <a:xfrm>
            <a:off x="2762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van J Perry et al. BMJ 1995;310:560-56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5 by British Medical Journal Publishing Group</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ve risk of non-insulin dependent diabetes (log scale) adjusted for age and body mass index with 95% confidence intervals, by (a) physical activity level and (b) alcohol intak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280360" y="6480000"/>
            <a:ext cx="1258920" cy="827280"/>
          </a:xfrm>
          <a:prstGeom prst="rect">
            <a:avLst/>
          </a:prstGeom>
          <a:ln w="0">
            <a:noFill/>
          </a:ln>
        </p:spPr>
      </p:pic>
      <p:pic>
        <p:nvPicPr>
          <p:cNvPr id="58" name="" descr=""/>
          <p:cNvPicPr/>
          <p:nvPr/>
        </p:nvPicPr>
        <p:blipFill>
          <a:blip r:embed="rId2"/>
          <a:stretch/>
        </p:blipFill>
        <p:spPr>
          <a:xfrm>
            <a:off x="3178080" y="1079640"/>
            <a:ext cx="3727440" cy="5394240"/>
          </a:xfrm>
          <a:prstGeom prst="rect">
            <a:avLst/>
          </a:prstGeom>
          <a:ln w="0">
            <a:noFill/>
          </a:ln>
        </p:spPr>
      </p:pic>
      <p:sp>
        <p:nvSpPr>
          <p:cNvPr id="59" name=""/>
          <p:cNvSpPr/>
          <p:nvPr/>
        </p:nvSpPr>
        <p:spPr>
          <a:xfrm>
            <a:off x="3178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van J Perry et al. BMJ 1995;310:560-56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5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